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E9A-F37F-4839-9DAA-F8115950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5B7-B74C-4082-8B2E-A45EE9F4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8B9-B68C-47FB-A138-BC59A700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425-1CD6-4765-ADB3-4EF53574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C0B-984D-4DA8-B4BD-5BDBDF7E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629-BB96-438E-8205-F292A7A6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C31-97A0-489B-98C0-AC5FDEFA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780-57A4-4D5D-B42A-86060C36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89E-7A42-4F11-A2AA-73EE70A5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6A6-BF2D-4171-A2C6-69B00C3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D59-19A0-4D40-8F4B-D937D64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947-4D88-4BC5-8504-CF9DE98F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63DD-2A20-4A49-8EE7-A406CE5B5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fine subclasses derived from parent class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owerful form of re-use: new classes are variation of existing class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Derived class inherit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mbers as if they were its ow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mbers are not directly accessible by derived class (access func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must be used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herits fro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ase clas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arent class is superclass of subclass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e example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ibility of class members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ope of member is limited to own class or friend functions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ber has global scope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tected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ber can be accessed by own class + maybe by derived class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tua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tual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lared with the keyword virtual in bas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verridden in one or more derived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ce virtual, always virtual: even if the derived class does not also the overridde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function virtual, it still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 with virtual function(s) is polymorphic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en virtual function is called via base class poin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++ determines the type of object pointed to by the pointer, and uses this to select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which function t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done at run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 different objects are pointed to, different versions of virtual functions a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invoked: Polymorphic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type of the object being pointed to, not the type of the pointer, determines which version is invo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tual Functions and Abstract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metimes, virtual functions in base class has no meaningful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animals have different favourite food, so virtual favoriteFood() will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ction wants to be overridden in all derived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 enforce this, use pure virtual fun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lare, but do not define virtual function in bas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ead, write virtual void favoriteFood(void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ans, every derived class must supply their own definition of favoriteFood(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 class fails to do so, a compiler error is cr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 class contains only one pure virtual function, it is virtual as well. No instances of this class can be created. The class becomes an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bstract 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… abstract class can be still used to create pointers (see animal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stract classes are sometimes desir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ced type conversion can be achieved by means of a special operator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 in C: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xample in C++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 x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int x;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float n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float n;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n =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(float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x / 3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n =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ic_cast&lt;float&g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(x) / 3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ic casts are used for many purposes: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convert a signed type into the correct unsigned type or vice versa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igned char x = 0xFF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int i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i = static_cast&lt;unsigned char&gt; 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value of I will be 255, while it would be –1 if we had omitted the c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2280" y="6858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division operation that, although applied to integers, is to yield a re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quotient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nt i = 14, j = 3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float x, y;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x = i / j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y = static_cast&lt;float&gt;(i) / static_cast&lt;float&gt;(j);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he result will be x = 4.0 and y = 4.666;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mitation of static_cast: Const pointers cannot be assigned to non-const point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Us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onst_ca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r this purpose; see examp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tcast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Remark: constcast1 gives details about one of the few situations, where const_cas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is useful. It is not recommended to use it otherwi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228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are also situations, where a bit pattern in memory must be interpreted as 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value of a data type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Example: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har ch[] = {‘a’, ‘b’, ‘c’, ‘d’}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float *zf = reinterpreter_cast&lt;float *&gt;(ch)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cout &lt;&lt; *zf &lt;&lt; endl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: Protocol analys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92120" y="609480"/>
            <a:ext cx="808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nally … Some Useful Guidelines for Good Class 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ete file h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ion against multiple inclu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ndard operations for all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ublic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 methods if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 arguments if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allest possible scope of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itialise variables when def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names for variables and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mogeneous sty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style guide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multiple source- and header files if requ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STL rather than reinventing the whe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ibility of member of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ibility modifi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rent cla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ark: Public visibility modifier is the most common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ivate, Protected and Public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Types I/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fo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specialis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is special case or sub-type of parent (most common form if inheritance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(see project “inheritance1”)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specific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has implementation of behaviour that is defined but not implemen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n parent (this is the basis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see later)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extens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adds new behaviour only; does not overwrite existing methods/variab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(see project “inheritance2”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combin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combines features of more than one parent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Types II /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N’T use Inheritance fo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construc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inherits much of functionality from parent, but there is no logical relationshi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between them; example: Pinball game – ball &amp; whole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limit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haviour of child class  is smaller or more restrictive than that of parent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and Overriding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derived class inherits all member functions from superclass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ever, a derived class can redefine functions that were already defined 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objects of the derived class, these override the original defin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derived class can access the overridden function of the superclass by using the scope resolution operator ::, e.g. &lt;VarName&gt;.&lt;SuperclassName&gt;::&lt;function&g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See project “inheritance3”)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and 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n instance of a subclass is created, a constructor of the base class is called befo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the constructor of the derived clas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This is don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licit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 car : public vehic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r(void) : vehicle() {…}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explicit call, optional arguments can be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r(void) {…}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implicit call of default constructor of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and De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2280" y="1143000"/>
            <a:ext cx="8159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n instance of a subclass is created, the attributes of the base class are created and initialised firs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ans that destructors are called in the reverse order to constructo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: There is no need to call a destructor explicitl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3440" y="3352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2120" y="3809880"/>
            <a:ext cx="8159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lass can be derived directly by two or more oth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e syntax as for single inheritance e.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lass MobilePhone : public Telephone, public Wireless …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ful in some circumstances, but increases complexity of desig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heritance and 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lymorphism: one interface, multiple implementa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rocess whereby different implementations of a function can be accessed using th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same nam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Different classes may respond to the same operation request in different way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unique to their respective behaviour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Since the same interface may be used irrespective of the actual class, the progra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omplexity is kept dow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wo main types: compile-time and run-time poly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ile-Time Polymorphis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hieved with overloading operators and functions, overriding functions in deriv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class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Compiler ascertains during compile time, which member function needs to b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execu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ically used with inher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ility to call functions of an object without specifying the object’s exact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s dynamic binding of function invocations to specific class methods at run-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hieved wit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irtual func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e examp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imal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This example shows, how a set of different objects with the same superclass can b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mana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un-Time or “Pure” Poly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00:39:33Z</dcterms:created>
  <dc:creator>Paul Boyle</dc:creator>
  <dc:description/>
  <dc:language>en-US</dc:language>
  <cp:lastModifiedBy>Paul Boyle</cp:lastModifiedBy>
  <dcterms:modified xsi:type="dcterms:W3CDTF">2004-01-22T01:20:47Z</dcterms:modified>
  <cp:revision>1</cp:revision>
  <dc:subject/>
  <dc:title>PowerPoint Presentation</dc:title>
</cp:coreProperties>
</file>